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EB4-65A6-4E79-93A8-4FF538EA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A35-A42A-41CE-9430-ACC20A4E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CA9-AC4F-45B9-8139-BFA63C53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2C8-7B29-4713-AF5D-B1B24EA9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0918-FFFC-4451-A51D-3710A807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374-C508-47C2-B3F6-B6F81BA8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34F-C413-4DCE-A6B7-A0C6EA6F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74A-2B05-4D4D-9545-987F8186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ADF-E9DC-4D42-8781-D32E0DE4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5EF-786E-4315-9F7C-912F0B08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5582-F939-43CE-B1CB-6F0CCD1C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A26-1720-4BD0-B928-8282BAF0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58A3-13B6-4863-AC33-6BF031017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6"/>
          <p:cNvSpPr/>
          <p:nvPr/>
        </p:nvSpPr>
        <p:spPr>
          <a:xfrm>
            <a:off x="595440" y="8340840"/>
            <a:ext cx="6022800" cy="1377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4"/>
          <p:cNvSpPr/>
          <p:nvPr/>
        </p:nvSpPr>
        <p:spPr>
          <a:xfrm>
            <a:off x="390600" y="979560"/>
            <a:ext cx="6251400" cy="7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 Narrow"/>
                <a:ea typeface="黑体"/>
              </a:rPr>
              <a:t>表面生长晶须对氧化铝陶瓷钎焊的影响规律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Narrow"/>
                <a:ea typeface="黑体"/>
              </a:rPr>
              <a:t>EFFECTS OF THE GROWN WHISKERS ON BRAZING OF ALU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4"/>
          <p:cNvSpPr/>
          <p:nvPr/>
        </p:nvSpPr>
        <p:spPr>
          <a:xfrm>
            <a:off x="587520" y="2476440"/>
            <a:ext cx="6054480" cy="916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379440" y="920880"/>
            <a:ext cx="604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959120" y="54000"/>
            <a:ext cx="295416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隶书"/>
              </a:rPr>
              <a:t>哈尔滨工业大学材料科学与工程学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华文新魏"/>
                <a:ea typeface="华文新魏"/>
              </a:rPr>
              <a:t>第十五届研究生模拟国际学术会议</a:t>
            </a:r>
            <a:r>
              <a:rPr b="0" lang="en-US" sz="1800" spc="-1" strike="noStrike">
                <a:solidFill>
                  <a:srgbClr val="0000cc"/>
                </a:solidFill>
                <a:latin typeface="华文新魏"/>
                <a:ea typeface="华文新魏"/>
              </a:rPr>
              <a:t>(2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4059720" y="1704960"/>
            <a:ext cx="235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材料加工工程学科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级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***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博士，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***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教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***618667@126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6"/>
          <p:cNvSpPr/>
          <p:nvPr/>
        </p:nvSpPr>
        <p:spPr>
          <a:xfrm>
            <a:off x="231840" y="2087640"/>
            <a:ext cx="21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  <a:ea typeface="黑体"/>
              </a:rPr>
              <a:t>研究背景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黑体"/>
              </a:rPr>
              <a:t>/ 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263520" y="3452760"/>
            <a:ext cx="64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  <a:ea typeface="黑体"/>
              </a:rPr>
              <a:t>主要创新成果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黑体"/>
              </a:rPr>
              <a:t>/Innovative Results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  <a:ea typeface="黑体"/>
              </a:rPr>
              <a:t>或研究思路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黑体"/>
              </a:rPr>
              <a:t>/ Research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9"/>
          <p:cNvSpPr/>
          <p:nvPr/>
        </p:nvSpPr>
        <p:spPr>
          <a:xfrm>
            <a:off x="581040" y="3781440"/>
            <a:ext cx="6037200" cy="40449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6"/>
          <p:cNvSpPr/>
          <p:nvPr/>
        </p:nvSpPr>
        <p:spPr>
          <a:xfrm>
            <a:off x="614520" y="8300880"/>
            <a:ext cx="598320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Arial"/>
              </a:rPr>
              <a:t>Y.F. Wang, J.C. Feng, Z.C. Chen, X.G. Song, J. Cao. Wetting of microstructured alumina fabricated by epitaxial growth of Al</a:t>
            </a:r>
            <a:r>
              <a:rPr b="0" lang="en-US" sz="10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0" lang="en-US" sz="1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0" lang="en-US" sz="1000" spc="-1" strike="noStrike" baseline="-25000">
                <a:solidFill>
                  <a:srgbClr val="0000cc"/>
                </a:solidFill>
                <a:latin typeface="Arial"/>
              </a:rPr>
              <a:t>9</a:t>
            </a:r>
            <a:r>
              <a:rPr b="0" lang="en-US" sz="1000" spc="-1" strike="noStrike">
                <a:solidFill>
                  <a:srgbClr val="0000cc"/>
                </a:solidFill>
                <a:latin typeface="Arial"/>
              </a:rPr>
              <a:t> whiskers. Applied surface science, 2015, 357: 766-770.(1f=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Arial"/>
              </a:rPr>
              <a:t>Y.F. Wang, J. Cao, Z.J. Wang, Z. Chen, X.G. Song and J.C. Feng. Temperature-dependent transformation from whisker- to nanoparticle-strengthened composite interface in the Al2O3/Ag-based alloy system and mechanical properties of the joints. Materials Characterization, 2015, 109: 50-56. (1f=X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Arial"/>
              </a:rPr>
              <a:t>Y.F. Wang, J.C. Feng, Z.J. Wang, X.G. Song and J. Cao. Joining of Al</a:t>
            </a:r>
            <a:r>
              <a:rPr b="0" lang="en-US" sz="1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0" lang="en-US" sz="10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cc"/>
                </a:solidFill>
                <a:latin typeface="Arial"/>
              </a:rPr>
              <a:t> via the epitaxial growth of aluminum borate whiskers for high-temperature applications. Materias Letters, 2016, 163: 231-235. (1f=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36" descr="HITLOGO.jpg"/>
          <p:cNvPicPr/>
          <p:nvPr/>
        </p:nvPicPr>
        <p:blipFill>
          <a:blip r:embed="rId1"/>
          <a:stretch/>
        </p:blipFill>
        <p:spPr>
          <a:xfrm>
            <a:off x="187200" y="100080"/>
            <a:ext cx="787680" cy="687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8"/>
          <p:cNvSpPr/>
          <p:nvPr/>
        </p:nvSpPr>
        <p:spPr>
          <a:xfrm>
            <a:off x="448200" y="79484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04a7b"/>
                </a:solidFill>
                <a:latin typeface="Arial"/>
                <a:ea typeface="黑体"/>
              </a:rPr>
              <a:t>代表性文章</a:t>
            </a:r>
            <a:r>
              <a:rPr b="0" lang="en-US" sz="1800" spc="-1" strike="noStrike">
                <a:solidFill>
                  <a:srgbClr val="604a7b"/>
                </a:solidFill>
                <a:latin typeface="Arial"/>
                <a:ea typeface="黑体"/>
              </a:rPr>
              <a:t>/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3"/>
          <p:cNvSpPr/>
          <p:nvPr/>
        </p:nvSpPr>
        <p:spPr>
          <a:xfrm>
            <a:off x="671400" y="7446960"/>
            <a:ext cx="202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Fig.1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</a:rPr>
              <a:t>Characterization of the grown whick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628560" y="2546280"/>
            <a:ext cx="594360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仿宋"/>
              </a:rPr>
              <a:t>Al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仿宋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仿宋"/>
              </a:rPr>
              <a:t>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仿宋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仿宋"/>
              </a:rPr>
              <a:t> is widely used in numerous areas due to its ultra-high melting temperature, excellent oxidation resistance, and high strength. Fabrication of topographically altered surfaces is beneficial to wetting on alumina and increasing the quality of alumina brazing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2496960" y="6091200"/>
            <a:ext cx="40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Fig.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2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</a:rPr>
              <a:t>Wetting curves on alum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3"/>
          <p:cNvSpPr/>
          <p:nvPr/>
        </p:nvSpPr>
        <p:spPr>
          <a:xfrm>
            <a:off x="2649600" y="7453440"/>
            <a:ext cx="19224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Fig.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</a:rPr>
              <a:t>3 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</a:rPr>
              <a:t>Microstructure of the whisker-coated Al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</a:rPr>
              <a:t>O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</a:rPr>
              <a:t> jo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6" descr="MSE-LOGO.jpg"/>
          <p:cNvPicPr/>
          <p:nvPr/>
        </p:nvPicPr>
        <p:blipFill>
          <a:blip r:embed="rId2"/>
          <a:stretch/>
        </p:blipFill>
        <p:spPr>
          <a:xfrm>
            <a:off x="5748480" y="103320"/>
            <a:ext cx="966600" cy="70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9" descr="E:\王义峰博士研究\paper\201506-07\Journal of the european ceramic society\上传\Fig. 9.jpg"/>
          <p:cNvPicPr/>
          <p:nvPr/>
        </p:nvPicPr>
        <p:blipFill>
          <a:blip r:embed="rId3"/>
          <a:stretch/>
        </p:blipFill>
        <p:spPr>
          <a:xfrm>
            <a:off x="4826160" y="6353280"/>
            <a:ext cx="1538280" cy="1139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0" descr="E:\王义峰博士研究\paper\201506-07\Ceramics international\Ceramics international 上传\Fig. 3.jpg"/>
          <p:cNvPicPr/>
          <p:nvPr/>
        </p:nvPicPr>
        <p:blipFill>
          <a:blip r:embed="rId4"/>
          <a:stretch/>
        </p:blipFill>
        <p:spPr>
          <a:xfrm>
            <a:off x="2690640" y="6389640"/>
            <a:ext cx="1863720" cy="107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1" descr="E:\王义峰博士研究\paper\201504-06\Applied surface science 上传\修改\修改后上传\Fig. 1.jpg"/>
          <p:cNvPicPr/>
          <p:nvPr/>
        </p:nvPicPr>
        <p:blipFill>
          <a:blip r:embed="rId5"/>
          <a:stretch/>
        </p:blipFill>
        <p:spPr>
          <a:xfrm>
            <a:off x="947880" y="5402160"/>
            <a:ext cx="1495440" cy="2089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5"/>
          <p:cNvSpPr/>
          <p:nvPr/>
        </p:nvSpPr>
        <p:spPr>
          <a:xfrm>
            <a:off x="752400" y="3841920"/>
            <a:ext cx="57736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仿宋"/>
              </a:rPr>
              <a:t>1. Topographical microstructures were fabricated on alumina by epitaxial growth of Al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  <a:ea typeface="仿宋"/>
              </a:rPr>
              <a:t>4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仿宋"/>
              </a:rPr>
              <a:t>B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  <a:ea typeface="仿宋"/>
              </a:rPr>
              <a:t>2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仿宋"/>
              </a:rPr>
              <a:t>O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  <a:ea typeface="仿宋"/>
              </a:rPr>
              <a:t>9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仿宋"/>
              </a:rPr>
              <a:t> whiskers in air.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（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Fig.1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仿宋"/>
              </a:rPr>
              <a:t>2. The time needed to reach the equilibrium wetting stage reduced as the temperature increased, and the final contact angle for liquid Ag-36.7Cu-8.0Ti at.% alloy on the rough surface was 27° at 880 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  <a:ea typeface="仿宋"/>
              </a:rPr>
              <a:t>℃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仿宋"/>
              </a:rPr>
              <a:t>.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（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Fig.2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仿宋"/>
              </a:rPr>
              <a:t>3. As the bonding temperature increased, the Al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  <a:ea typeface="仿宋"/>
              </a:rPr>
              <a:t>2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仿宋"/>
              </a:rPr>
              <a:t>O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  <a:ea typeface="仿宋"/>
              </a:rPr>
              <a:t>3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仿宋"/>
              </a:rPr>
              <a:t>/AgCuTi interface was found to transform from whisker- to nanoparticle-strengthened composite region.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（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Fig.3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4. Both whiskers grown on Al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  <a:ea typeface="Times New Roman"/>
              </a:rPr>
              <a:t>2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O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  <a:ea typeface="Times New Roman"/>
              </a:rPr>
              <a:t>3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 and the dispersive nanoscale products in the alloy played positive roles in improving the joint properties. 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（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Fig.4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3" descr="E:\王义峰博士研究\paper\201504-06\Applied surface science 上传\修改\修改后上传\Fig. 3.jpg"/>
          <p:cNvPicPr/>
          <p:nvPr/>
        </p:nvPicPr>
        <p:blipFill>
          <a:blip r:embed="rId6"/>
          <a:srcRect l="0" t="0" r="0" b="51314"/>
          <a:stretch/>
        </p:blipFill>
        <p:spPr>
          <a:xfrm>
            <a:off x="2496960" y="5402160"/>
            <a:ext cx="2043360" cy="720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4" descr="E:\王义峰博士研究\paper\201504-06\Applied surface science 上传\修改\修改后上传\Fig. 3.jpg"/>
          <p:cNvPicPr/>
          <p:nvPr/>
        </p:nvPicPr>
        <p:blipFill>
          <a:blip r:embed="rId7"/>
          <a:srcRect l="0" t="48371" r="0" b="0"/>
          <a:stretch/>
        </p:blipFill>
        <p:spPr>
          <a:xfrm>
            <a:off x="4540320" y="5388120"/>
            <a:ext cx="2016000" cy="753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3"/>
          <p:cNvSpPr/>
          <p:nvPr/>
        </p:nvSpPr>
        <p:spPr>
          <a:xfrm>
            <a:off x="4659480" y="7459560"/>
            <a:ext cx="19224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f6228"/>
                </a:solidFill>
                <a:latin typeface="Arial"/>
                <a:ea typeface="Times New Roman"/>
              </a:rPr>
              <a:t>Fig.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</a:rPr>
              <a:t>4</a:t>
            </a:r>
            <a:r>
              <a:rPr b="1" lang="zh-CN" sz="10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</a:rPr>
              <a:t>Effect of whiskers on bend strength of Al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</a:rPr>
              <a:t>O</a:t>
            </a:r>
            <a:r>
              <a:rPr b="1" lang="en-US" sz="1000" spc="-1" strike="noStrike" baseline="-25000">
                <a:solidFill>
                  <a:srgbClr val="4f6228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4f6228"/>
                </a:solidFill>
                <a:latin typeface="Arial"/>
              </a:rPr>
              <a:t> jo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6:54:27Z</dcterms:created>
  <dc:creator>system</dc:creator>
  <dc:description/>
  <dc:language>en-US</dc:language>
  <cp:lastModifiedBy>Administrator</cp:lastModifiedBy>
  <cp:lastPrinted>2015-12-01T08:28:43Z</cp:lastPrinted>
  <dcterms:modified xsi:type="dcterms:W3CDTF">2019-11-20T07:59:42Z</dcterms:modified>
  <cp:revision>1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